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media/image10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1A5-2D3D-4E44-9A7F-DB63C621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806-19CA-49F5-AAD7-269F962F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1208E-6EB7-4800-BA40-F0120D42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1293F-963F-4A39-9DC2-C1DE3D18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0DC51-12CE-4C17-BF7D-7701B738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76F81-85E0-4FE0-B44B-13AA6A0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9017C-5E7E-4172-9EB0-7E5DCE4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05F5F-1C93-4A8A-949F-A4A6B31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1659B-7AC0-429E-ACE0-B31A00B1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F4C41-A70D-4F36-B162-5B37DEB1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09179-0E1D-4A40-93F5-F8C72F1D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68A11-1CAA-41CC-9750-5028B2FB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2AC-4130-4C83-99A4-D0360C69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88EFC-A1AC-438E-86E2-16C73CFD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CB863-42EE-47D8-8464-FD77A0B8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D0099-C353-4223-A768-B8C35A11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130B7-FB74-4AF7-BFB1-15496729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3ECD7-98CC-4DE7-B355-8AAD8978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6607D-8929-493B-8307-9E980FF3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33853-DD96-4BB5-A20A-872F2587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AC0ED-25A1-4B64-BE1E-7142454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AC2E3-3989-4E59-BEF7-964A7F9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473EB-1D7A-4ED9-AA2B-52ED9F0D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C17-FE4C-45E2-8288-9FC9CEDB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4FC1A-59BE-4DE8-BC4B-E39A66BB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800B7-6C2A-424F-BB2D-BCC81C10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E6FFC-71C4-4448-9DE7-8D05F87D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86698-B680-4A7B-9E09-17965E02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FF825-D499-4F80-904C-8B4ADF4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5BDD4-532A-4552-82B6-637061B8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7B3C5-409F-44B4-921E-4957D96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72145-4382-4207-BEA9-D6532AA8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08EED-F3A7-4D5A-89E9-0AD9DE9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F8B4F-0F69-44EA-8A5B-1300374F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DBB0-2C5C-486A-A403-D0B9EAC9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B259F-2DF5-4EFC-9D8A-334410B8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BF4B1-5D84-41DA-B070-DE0DF289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06853-491E-492B-9363-D2FDB6D8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74169-16F1-41DF-9219-A1E268D6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6FCB7-9E91-4986-90AB-95FD8494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1DB3C-2C06-4C1E-BA96-DBD42B8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5CC81-9FCD-4308-9665-DE886147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48DD7-6DF1-4A33-83C8-00CAA1AD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AF6A1-8094-43B1-8A36-2FF14575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9F7CB-882D-41F5-896D-769C246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C01E-7CBD-44B8-B308-2EA2C72C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8BE98-A2E8-403D-863C-99F78969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92208-DB72-43C0-B237-77ECB5BC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46C74-F66B-4363-BC28-7BEDF8FE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2F8F6-B760-4D96-BE85-9B89CDD7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E66DE-8C85-4115-8859-F6956598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30E3-F493-45F4-A477-70A48EED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52DD-4F67-426B-969B-2D87FAF8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4EB8-CF97-44D0-BFC8-FA13BE17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E49D-5F1E-4C26-A7DD-C47F8D5E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FB46-4A6B-4F1B-942A-A748EBC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012-A308-41C5-9EA1-C2C3478E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0DD-6EF8-4F12-9F97-95BDF27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2786-44D4-4EED-A613-F6BE4B78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9D7-C231-4E2B-B177-B437DEF8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821D-3A29-449C-BB59-288313A4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6EBF-8C59-4FA0-981C-3280E6F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1420-BCBD-4DE1-8A10-D8A5856E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C1C5-B6AA-4870-A8DC-B334FA24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2133-A89E-4EF3-9FC8-067C31D2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A243-59F1-46AB-AD1D-7D5CA004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D883-6F25-4381-B537-0B514F3E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121-F1F5-4761-8F3C-55B4E6D7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B41A-10C7-43F2-9931-A347A9A0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0545-D9CB-4365-BCEF-A93A5A03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83CE-E872-4D74-B60C-B406162C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000F-A3A6-4F57-8272-BBD6B91C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7822-FE70-4030-8EF3-4EB90D87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8479-7107-4C48-874C-3797F135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2034-AFE6-4019-9124-6404CC94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923A-698A-48E4-A215-0EA3B12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F63B-D560-42CD-AAF3-2A5B504F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255AD-B849-4291-81D1-EDC6FEF3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CF8-3080-4589-ACDF-807F3CA0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5D7A-1414-41D2-9DC0-4F227F8D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ACBB-57AF-4901-AF9B-675DD0CA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96B6-40A2-45CE-ADAE-76C7EF61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D919-523C-4B66-8605-B69EC5A7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60DF-BF64-4F27-8A60-6CE69178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897A-785B-43F1-91A6-BBFE48F8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432E-8C52-4C97-A2EE-1A20805B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6B63-A390-4CBF-9381-DE7C8C2C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F1250-349F-4F51-8FB4-25EF403E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BEA2B-B85E-485F-8A8F-9DB154E5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D95-502B-4FF3-AD89-5C531E2B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A87C-32DD-4C55-82FD-247098DD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48410-C885-4815-A4D9-DCD14218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C8BC0-35C1-41D8-BF12-0A52E418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1244B-7768-4D75-92C4-04D7285F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5FE4-63DA-45F2-8D7F-D7BFFDF0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E013-18FD-4D0E-9ED2-979F06FF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020F-EE61-45F2-AD76-987FA95E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5143A-331D-429C-9B9F-046A3996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F399-EC57-49EC-812F-758667BF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BEE8D-D66A-46E9-9AAA-769189F8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18D-6CC9-43D9-9029-7409D7EB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BB274-65C1-4149-9C62-1A48BDDF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C5D8-B08C-4821-BB95-D75FF048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31439-4411-4CAC-955A-A337FFF2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5150E-7716-4D26-8047-5E8C56F3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AF55-C477-4019-8FC7-8439F7E3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AF6CF-81FD-4ECD-9424-730EE89C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03BEA-C3BD-4FE2-BD85-BB68A68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08881-587C-4969-9D22-D0C84E7C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A4C6E-C892-4BFA-BF05-D8134FC7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79D69-75B3-4D31-A724-231123F2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260-51DC-4414-8CEF-5FBC516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F59BE-9651-441F-A591-770D9DD5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D7FE-A35C-4B5C-B79B-CD2E404F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78A1B-ED18-41FD-A39C-434FE4C4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B1EC1-4C53-4393-B830-6657AEC9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BC1A4-E98B-4D59-A2E9-786B32B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13FE5-C8A2-42B3-9A47-60BB0EFA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43BAA-BE26-424D-BBB9-2D9970BA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2851B-8572-4F05-8A85-5398CF55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F77DD-B526-4E17-AB4E-D9D2791F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8B739-8D6B-44D3-8841-EA91AE2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1BA-E4FF-4CB1-86C6-F329585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8942D-D774-42F1-915C-0F01DB3B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CE31-2A3B-4856-9B2E-26A29E7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7411-19F9-479F-B02D-FEB15490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DC3CC-DE14-461A-B7A7-E0CA954E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085E-5A93-4D1E-A56D-9053834E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BD8A2-160E-4725-A3FB-24CBE330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C4FCB-9BDC-4AAD-BAFC-D031DEC8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8FAEF-D809-4FB7-BA30-FFFE8369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3C7A-3EAA-4058-9602-1DEF07F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F98CD-817E-402B-9C41-0C4BA92D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7C5-65DF-45F2-82D5-1D896B25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96327-26FD-47F6-BAF2-82E429FF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C0FE-51C3-400C-B86F-EA91BFCF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F6AB0-ABF3-4291-ADF3-5ADC6F4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B0F84-07E4-4156-A21C-C40571B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C5BF-A532-4509-AA51-6C9DF1FB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03006-B511-4CBB-B866-7F204955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6F4B2-F4D3-4A30-8000-97EAC260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FC114-7940-484E-B428-42A49EE5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DD809-6699-4719-B31F-9D7B5A2B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58378-D358-4AAC-8295-9F3BD671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B64B-1C92-42D5-8CBB-4E5E9F80CFA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2CC-1320-4A1C-9906-6A80FB73A0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9DA8-E9E3-4E68-9A25-55EBF73DF8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5666-9549-49B1-9151-0864DEC57F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5071-4921-4129-B102-BE850D250F4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AE3-8090-470A-BD77-F3BCAC19B1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D8CF-9F85-4829-95C6-B3F98BBD41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5A7E-08CA-4F99-A3BB-4774571FC8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657B-4392-4865-902C-C712FB4C86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44FE-8B8C-46EC-B216-89D177FC3B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D0BC-D6DD-497B-A69C-2F1B637F4E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7D5E-CC34-4E7D-9DA4-96A61FDDDC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绝美的景色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  <a:ea typeface="华文行楷"/>
              </a:rPr>
              <a:t>赏月话名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1116000" y="414972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请你根据下列图片中月亮的形状，说说古人曾经给了它们怎样的名称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正音、解词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0520" y="1752480"/>
            <a:ext cx="860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觑（    ） 倏（     ） 袅（     ） 锨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糙（    ） 掬（     ） 酥（     ） 偎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款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面相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袅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争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116000" y="1700280"/>
            <a:ext cx="88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q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</a:rPr>
              <a:t>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059280" y="17002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sh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380360" y="162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xiā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148360" y="1700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niǎ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2276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cā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3059280" y="227664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j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5219640" y="2276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s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7380360" y="22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wēi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1600200" y="27432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3f17e7"/>
                </a:solidFill>
                <a:uFillTx/>
                <a:latin typeface="黑体"/>
                <a:ea typeface="黑体"/>
              </a:rPr>
              <a:t>缓慢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2133720" y="3352680"/>
            <a:ext cx="63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3f17e7"/>
                </a:solidFill>
                <a:uFillTx/>
                <a:latin typeface="黑体"/>
                <a:ea typeface="黑体"/>
              </a:rPr>
              <a:t>你看我，我看你，形容大家因惊讶而互相望着，都不说话。觑：看，瞧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1371600" y="4343400"/>
            <a:ext cx="47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3f17e7"/>
                </a:solidFill>
                <a:uFillTx/>
                <a:latin typeface="黑体"/>
                <a:ea typeface="黑体"/>
              </a:rPr>
              <a:t>形容烟气缭绕上升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1523880" y="4876920"/>
            <a:ext cx="61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3f17e7"/>
                </a:solidFill>
                <a:uFillTx/>
                <a:latin typeface="黑体"/>
                <a:ea typeface="黑体"/>
              </a:rPr>
              <a:t>争论中各持己见，不肯相让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68000" y="1052640"/>
            <a:ext cx="844236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章写了什么时间、什么地点、什么人的什么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971640" y="2492280"/>
            <a:ext cx="8172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间：中秋的夜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地点：中堂里、院子里、院子外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物：奶奶、我和弟弟妹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事情：盼月亮、寻月亮、议月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434240" y="544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文章重点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203640" y="544500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寻月亮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755640" y="476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纵观全文，孩子们追寻月亮踪迹有哪三个阶段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533520" y="21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盼月亮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 flipH="1" rot="16221000">
            <a:off x="4034880" y="1748520"/>
            <a:ext cx="308160" cy="3505320"/>
          </a:xfrm>
          <a:custGeom>
            <a:avLst/>
            <a:gdLst>
              <a:gd name="textAreaLeft" fmla="*/ 196920 w 308160"/>
              <a:gd name="textAreaRight" fmla="*/ 308520 w 30816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7546"/>
                </a:lnTo>
                <a:cubicBezTo>
                  <a:pt x="10800" y="8446"/>
                  <a:pt x="5400" y="9345"/>
                  <a:pt x="0" y="9345"/>
                </a:cubicBezTo>
                <a:cubicBezTo>
                  <a:pt x="5400" y="9345"/>
                  <a:pt x="10800" y="10245"/>
                  <a:pt x="10800" y="11144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1847520" y="3809880"/>
            <a:ext cx="152100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院中望月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2899800" y="3809880"/>
            <a:ext cx="13993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杯中饮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3814200" y="3733920"/>
            <a:ext cx="1399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河中寻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80880" y="3733920"/>
            <a:ext cx="139932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眼瞳见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766080" y="34981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镜中看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6709680" y="3422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沙滩议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1066680" y="3276720"/>
            <a:ext cx="287280" cy="504720"/>
          </a:xfrm>
          <a:prstGeom prst="downArrow">
            <a:avLst>
              <a:gd name="adj1" fmla="val 50000"/>
              <a:gd name="adj2" fmla="val 439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858000" y="3200400"/>
            <a:ext cx="287280" cy="504720"/>
          </a:xfrm>
          <a:prstGeom prst="downArrow">
            <a:avLst>
              <a:gd name="adj1" fmla="val 50000"/>
              <a:gd name="adj2" fmla="val 439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91656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—4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3431520" y="2819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—30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6022800" y="27432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1——36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Rectangle 17"/>
          <p:cNvSpPr/>
          <p:nvPr/>
        </p:nvSpPr>
        <p:spPr>
          <a:xfrm>
            <a:off x="2754360" y="2160720"/>
            <a:ext cx="19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——</a:t>
            </a: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寻月亮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5470920" y="2112840"/>
            <a:ext cx="17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——</a:t>
            </a:r>
            <a:r>
              <a:rPr b="0" i="1" lang="zh-CN" sz="32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议月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474120" y="3124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思路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26400" y="5943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线索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21"/>
          <p:cNvSpPr/>
          <p:nvPr/>
        </p:nvSpPr>
        <p:spPr>
          <a:xfrm>
            <a:off x="2514600" y="5943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月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4005360" y="938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讨论分析本文的思路和行文线索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523520"/>
            <a:ext cx="7650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的孩子们在哪里寻到了月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2871720" y="2765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竹窗帘儿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5239080" y="2819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穿衣镜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2348640" y="342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院子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394380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葡萄叶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5772600" y="345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瓷花盆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2185920" y="4267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爷爷锹刃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4177440" y="4267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沙滩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56386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湾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2221560" y="4846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湾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0880" y="549360"/>
            <a:ext cx="876312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开头写“我们这些孩子，什么都觉得新鲜，常常又什么都不觉满足”，而结尾却说“大家都觉得满足了”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468360" y="2421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不满足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--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2700360" y="2421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孩子的眼睛里， 世界上的万事万物都是那么新鲜好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2700360" y="3645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他的心里有无数个为什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?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611280" y="458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满  足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--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2700360" y="4653000"/>
            <a:ext cx="62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cc00ff"/>
                </a:solidFill>
                <a:uFillTx/>
                <a:latin typeface="Arial"/>
                <a:ea typeface="宋体"/>
              </a:rPr>
              <a:t>孩子们在寻月中得到了满足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孩子们由“不满足”到“满足”，经历了哪些心理变化？这变化过程表现了什么？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01880" y="1774440"/>
            <a:ext cx="2035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95280" y="1700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镜中月亮由圆而亏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------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4211640" y="256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羡慕、嫉妒、争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468360" y="2637000"/>
            <a:ext cx="38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以为月亮仅属三妹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------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4643280" y="393372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越发觉得奇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 flipV="1" rot="10800000">
            <a:off x="323640" y="3499200"/>
            <a:ext cx="657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奶奶说“月亮是每个人的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                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它并没有走”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-----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003640" y="51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都觉得满足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250920" y="4829040"/>
            <a:ext cx="647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河中寻月、瞳中见月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原来月亮竟是这么多的”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------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7451640" y="1557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好奇心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Rectangle 12"/>
          <p:cNvSpPr/>
          <p:nvPr/>
        </p:nvSpPr>
        <p:spPr>
          <a:xfrm>
            <a:off x="7543800" y="251460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争强好胜之心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Rectangle 13"/>
          <p:cNvSpPr/>
          <p:nvPr/>
        </p:nvSpPr>
        <p:spPr>
          <a:xfrm>
            <a:off x="7315200" y="441972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纯洁美好的童心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2411280" y="981000"/>
            <a:ext cx="635184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亮是我所要的。”    弟弟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2771640" y="220500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是个好。”    妹妹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916360" y="335772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突然觉得，我们有了月亮，那无边无际的天空也是我们的了，那月亮不是我们按在天空上的印章吗？”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33360" y="1916280"/>
            <a:ext cx="152100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是什么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611280" y="981000"/>
            <a:ext cx="81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理解       “月亮是我所要的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是个好”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900000" y="3141720"/>
            <a:ext cx="6986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月亮给人以美的享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月亮是一个美好的事物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月亮寄托着孩童纯真的愿望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179280" y="549000"/>
            <a:ext cx="812664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  “我突然觉得，我们有了月亮，那无边无际的天空也是我们的了，那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月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我们按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天空中的印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539640" y="2276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印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条据或证明材料上盖上印章，表明自己对条据或材料负责；在个人字画书刊上盖上印章，表明属于自己所有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950760" y="2400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WordArt 5"/>
          <p:cNvSpPr txBox="1"/>
          <p:nvPr/>
        </p:nvSpPr>
        <p:spPr>
          <a:xfrm>
            <a:off x="755640" y="4005360"/>
            <a:ext cx="352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宋体"/>
              </a:rPr>
              <a:t>证明作用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608" name="WordArt 6"/>
          <p:cNvSpPr txBox="1"/>
          <p:nvPr/>
        </p:nvSpPr>
        <p:spPr>
          <a:xfrm>
            <a:off x="2050920" y="5084640"/>
            <a:ext cx="62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9080">
                  <a:solidFill>
                    <a:srgbClr val="33cccc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我拥有月亮、我拥有天空、我拥有宇宙</a:t>
            </a:r>
            <a:endParaRPr b="1" i="1" lang="en-US" sz="2400" spc="1" strike="noStrike" u="sng">
              <a:ln w="19080">
                <a:solidFill>
                  <a:srgbClr val="33cccc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为什么文章要以“月迹”为标题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599840"/>
            <a:ext cx="8380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2535120" y="1608120"/>
            <a:ext cx="34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的变化轨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2556000" y="2676600"/>
            <a:ext cx="609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在孩子心中留下的美好印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3773160" y="3827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切美的印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WordArt 7"/>
          <p:cNvSpPr txBox="1"/>
          <p:nvPr/>
        </p:nvSpPr>
        <p:spPr>
          <a:xfrm>
            <a:off x="4643280" y="4292640"/>
            <a:ext cx="280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寻美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2843280" y="4292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ccccff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5400" spc="-1" strike="noStrike" u="sng">
                <a:solidFill>
                  <a:srgbClr val="ccccff"/>
                </a:solidFill>
                <a:uFillTx/>
                <a:latin typeface="Arial"/>
                <a:ea typeface="宋体"/>
              </a:rPr>
              <a:t>因初月如钩，故称银钩、玉钩。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11280" y="728640"/>
            <a:ext cx="82296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寻月过程　　　　寻月所见　　　      孩子的心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镜中看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院中望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杯中“饮月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河中寻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瞳见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沙滩议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"/>
          <p:cNvSpPr/>
          <p:nvPr/>
        </p:nvSpPr>
        <p:spPr>
          <a:xfrm>
            <a:off x="539640" y="836640"/>
            <a:ext cx="216000" cy="5113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3200 h 5113440"/>
              <a:gd name="textAreaBottom" fmla="*/ 4980240 h 51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-135000" y="2205000"/>
            <a:ext cx="459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4320" y="234936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951b38"/>
                </a:solidFill>
                <a:uFillTx/>
                <a:latin typeface="Times New Roman"/>
                <a:ea typeface="黑体"/>
              </a:rPr>
              <a:t>月　　迹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2771640" y="148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长腿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3708360" y="148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圆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4211640" y="1484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亏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4859280" y="148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消失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6516720" y="9079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6300720" y="148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失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4245480" y="227664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玉玉、银银、有桂树嫦娥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6372360" y="227664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争执</a:t>
            </a:r>
            <a:r>
              <a:rPr b="0" i="1" lang="zh-CN" sz="18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2771640" y="3068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一人一月，月亮在心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6230880" y="299736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人人拥有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Text Box 16"/>
          <p:cNvSpPr/>
          <p:nvPr/>
        </p:nvSpPr>
        <p:spPr>
          <a:xfrm>
            <a:off x="2843280" y="386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哪一处水里都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6156360" y="386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处处都有</a:t>
            </a: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341964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2700360" y="472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哪个人眼瞳里都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Text Box 20"/>
          <p:cNvSpPr/>
          <p:nvPr/>
        </p:nvSpPr>
        <p:spPr>
          <a:xfrm>
            <a:off x="6012000" y="4724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竟是这么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334800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Text Box 22"/>
          <p:cNvSpPr/>
          <p:nvPr/>
        </p:nvSpPr>
        <p:spPr>
          <a:xfrm>
            <a:off x="3266280" y="55166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月亮是我们的印章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651672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满足</a:t>
            </a: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AutoShape 24"/>
          <p:cNvSpPr/>
          <p:nvPr/>
        </p:nvSpPr>
        <p:spPr>
          <a:xfrm>
            <a:off x="7812000" y="1052640"/>
            <a:ext cx="216000" cy="4608360"/>
          </a:xfrm>
          <a:custGeom>
            <a:avLst/>
            <a:gdLst>
              <a:gd name="textAreaLeft" fmla="*/ 0 w 216000"/>
              <a:gd name="textAreaRight" fmla="*/ 78120 w 21600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7617240" y="1989000"/>
            <a:ext cx="11552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50116"/>
                </a:solidFill>
                <a:uFillTx/>
                <a:latin typeface="Times New Roman"/>
                <a:ea typeface="宋体"/>
              </a:rPr>
              <a:t>童心升华之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Text Box 26"/>
          <p:cNvSpPr/>
          <p:nvPr/>
        </p:nvSpPr>
        <p:spPr>
          <a:xfrm>
            <a:off x="2556000" y="6021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追 求 美 的 过 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WordArt 27"/>
          <p:cNvSpPr txBox="1"/>
          <p:nvPr/>
        </p:nvSpPr>
        <p:spPr>
          <a:xfrm>
            <a:off x="324000" y="115920"/>
            <a:ext cx="25336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 u="sng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方正舒体"/>
              </a:rPr>
              <a:t>课堂小结 </a:t>
            </a:r>
            <a:endParaRPr b="1" i="1" lang="en-US" sz="4000" spc="1" strike="noStrike" u="sng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方正舒体"/>
              <a:ea typeface="方正舒体"/>
            </a:endParaRPr>
          </a:p>
        </p:txBody>
      </p:sp>
    </p:spTree>
  </p:cSld>
  <p:transition spd="med">
    <p:strips dir="l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04920" y="533160"/>
            <a:ext cx="831672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奶奶是个什么样的人物形象？这个形象在文中有什么作用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解题思路：先看看奶奶做了哪些事情？对事情的发展有怎样的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457200" y="220968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“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的指引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突然说：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月亮进来了！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说：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它走了，</a:t>
            </a:r>
            <a:r>
              <a:rPr b="0" i="1" lang="en-US" sz="2800" spc="-1" strike="noStrike" u="sng">
                <a:solidFill>
                  <a:srgbClr val="ff0066"/>
                </a:solidFill>
                <a:uFillTx/>
                <a:latin typeface="黑体"/>
              </a:rPr>
              <a:t>------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你们快出去寻月吧。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”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从屋里端了一壶甜酒出来</a:t>
            </a:r>
            <a:r>
              <a:rPr b="0" i="1" lang="en-US" sz="2800" spc="-1" strike="noStrike" u="sng">
                <a:solidFill>
                  <a:srgbClr val="ff0066"/>
                </a:solidFill>
                <a:uFillTx/>
                <a:latin typeface="黑体"/>
              </a:rPr>
              <a:t>------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你们都有一个月亮哩！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说：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月亮是每一个人的，它并没走，你们再去找吧。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”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533520" y="52578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32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奶奶是一个我们寻找美的过程中的引导者的形象</a:t>
            </a: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.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79280" y="5229360"/>
            <a:ext cx="8785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e4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没有奶奶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黑体"/>
              </a:rPr>
              <a:t>这个形象，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就没有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黑体"/>
              </a:rPr>
              <a:t>孩童的寻月、议月，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就没有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黑体"/>
              </a:rPr>
              <a:t>孩童心灵的升华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116000" y="1413000"/>
            <a:ext cx="6769080" cy="703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奶奶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了解、爱护并有意于发展孩子的童心童真，自身对生活也充满了热情；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900000" y="2708280"/>
            <a:ext cx="71280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奶奶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又是一个高明的教育家，注重引导孩子关注外界，探索自然；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684360" y="3933720"/>
            <a:ext cx="7559640" cy="1130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Tahoma"/>
                <a:ea typeface="宋体"/>
              </a:rPr>
              <a:t>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Tahoma"/>
                <a:ea typeface="宋体"/>
              </a:rPr>
              <a:t>奶奶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注重调解孩子之间的矛盾纠纷，并将他们的心灵带进新的高尚境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1981080" y="152280"/>
            <a:ext cx="4191120" cy="1069200"/>
          </a:xfrm>
          <a:prstGeom prst="rect">
            <a:avLst/>
          </a:prstGeom>
          <a:noFill/>
          <a:ln w="9360">
            <a:solidFill>
              <a:srgbClr val="e4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话  说  奶  奶 </a:t>
            </a:r>
            <a:r>
              <a:rPr b="0" i="1" lang="en-US" sz="44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2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——</a:t>
            </a: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奶奶形象的重要作用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AutoShape 7"/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468000" y="1700280"/>
            <a:ext cx="63356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示例：第</a:t>
            </a:r>
            <a:r>
              <a:rPr b="1" lang="en-US" sz="3200" spc="-1" strike="noStrike">
                <a:solidFill>
                  <a:srgbClr val="ff505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月亮的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月光的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桂树的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枝叶的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花朵的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900000" y="2852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6666"/>
                </a:solidFill>
                <a:uFillTx/>
                <a:latin typeface="黑体"/>
              </a:rPr>
              <a:t> </a:t>
            </a: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黑体"/>
                <a:ea typeface="黑体"/>
              </a:rPr>
              <a:t>玉玉</a:t>
            </a:r>
            <a:r>
              <a:rPr b="0" i="1" lang="en-US" sz="3200" spc="-1" strike="noStrike" u="sng">
                <a:solidFill>
                  <a:srgbClr val="006666"/>
                </a:solidFill>
                <a:uFillTx/>
                <a:latin typeface="黑体"/>
              </a:rPr>
              <a:t>/</a:t>
            </a: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黑体"/>
                <a:ea typeface="黑体"/>
              </a:rPr>
              <a:t>银银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WordArt 4"/>
          <p:cNvSpPr txBox="1"/>
          <p:nvPr/>
        </p:nvSpPr>
        <p:spPr>
          <a:xfrm rot="20440800">
            <a:off x="3635280" y="4723920"/>
            <a:ext cx="468180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3366ff"/>
                  </a:solidFill>
                  <a:round/>
                </a:ln>
                <a:solidFill>
                  <a:srgbClr val="000000"/>
                </a:solidFill>
                <a:uFillTx/>
                <a:latin typeface="宋体"/>
              </a:rPr>
              <a:t>叠词的运用，使文章语言充满童趣</a:t>
            </a:r>
            <a:endParaRPr b="1" i="1" lang="en-US" sz="2400" spc="1" strike="noStrike" u="sng">
              <a:ln w="9360">
                <a:solidFill>
                  <a:srgbClr val="3366ff"/>
                </a:solidFill>
                <a:round/>
              </a:ln>
              <a:solidFill>
                <a:srgbClr val="000000"/>
              </a:solidFill>
              <a:uFillTx/>
              <a:latin typeface="宋体"/>
              <a:ea typeface="宋体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395280" y="404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从文中找出你认为最富有儿童特色的语言进行赏析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1476360" y="2276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Arial"/>
                <a:ea typeface="黑体"/>
              </a:rPr>
              <a:t>满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1476360" y="3429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Arial"/>
                <a:ea typeface="黑体"/>
              </a:rPr>
              <a:t>粗粗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1476360" y="40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Arial"/>
                <a:ea typeface="黑体"/>
              </a:rPr>
              <a:t>疏疏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1476360" y="465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Arial"/>
                <a:ea typeface="黑体"/>
              </a:rPr>
              <a:t>累累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609480" y="1143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我们都看着那杯酒，果真里边就浮起一个小小的月亮的满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838080" y="32767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句中的动词“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浮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”用的非常生动，真切的写出了这时月亮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轻盈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的特点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0" name="Picture 4" descr="返回次2"/>
          <p:cNvPicPr/>
          <p:nvPr/>
        </p:nvPicPr>
        <p:blipFill>
          <a:blip r:embed="rId1"/>
          <a:stretch/>
        </p:blipFill>
        <p:spPr>
          <a:xfrm>
            <a:off x="6781680" y="556272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826920" y="6922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大家都喝下肚去，月亮就在每一个人的心里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79280" y="256536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这是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虚写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月亮当然不可能真的在每个人的心里，可见作者的表现手法十分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含蓄别致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它寄托了一个更为深层的含义：表达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人们追求美好理想的愿望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3" name="Picture 4" descr="返回次2"/>
          <p:cNvPicPr/>
          <p:nvPr/>
        </p:nvPicPr>
        <p:blipFill>
          <a:blip r:embed="rId1"/>
          <a:stretch/>
        </p:blipFill>
        <p:spPr>
          <a:xfrm>
            <a:off x="6781680" y="579132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1187280" y="189000"/>
            <a:ext cx="813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有三妹漂亮吗？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和三妹一样漂亮的。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三妹就乐了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啊，啊！月亮是属于我的了。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324000" y="373392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这个对话描写十分精彩，既写出了儿童特有的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天真烂漫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活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泼可爱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的天性，又反映了人们对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美好事物的热爱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向往之情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6" name="Picture 4" descr="返回次2"/>
          <p:cNvPicPr/>
          <p:nvPr/>
        </p:nvPicPr>
        <p:blipFill>
          <a:blip r:embed="rId1"/>
          <a:stretch/>
        </p:blipFill>
        <p:spPr>
          <a:xfrm>
            <a:off x="7667640" y="6165720"/>
            <a:ext cx="102852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066680" y="6922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我同意他们的话。正像奶奶说的那样：它是属于我们的，每一个人的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826920" y="2895480"/>
            <a:ext cx="747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这句话富有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哲理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说明人人都有追求美好事物的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权力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人人也都能够实现自己的美好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理想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9" name="Picture 4" descr="返回次2"/>
          <p:cNvPicPr/>
          <p:nvPr/>
        </p:nvPicPr>
        <p:blipFill>
          <a:blip r:embed="rId1"/>
          <a:stretch/>
        </p:blipFill>
        <p:spPr>
          <a:xfrm>
            <a:off x="7308720" y="616572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34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971640" y="620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 </a:t>
            </a:r>
            <a:r>
              <a:rPr b="0" i="1" lang="en-US" sz="40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“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月亮是个好”，妹妹说的这句话如何理解？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762120" y="2590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“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好”就是指美好的东西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月亮那么美丽和纯洁，给每个人都带来美的享受。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762120" y="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理解“我突然觉得，我们有了月亮，那无边无际的天空也是我们的了，那月亮不是我们按在天空上的印章吗？”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0" y="184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一轮圆月衬着无边无际的天空，像一枚小小的印章盖在书本上，既然月亮属于我们每一个人的，那无垠的天空也是属于我们的了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月亮是美的，天空也是美的。无边无际的天空象征着世间所有美好的事物。我们每个人都可以寻找到生活中的美，对美的追求，应该是人生的座右铭，对于你们是如此，对于我们每个人都是如此。 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75" name="Picture 4" descr="返回主1"/>
          <p:cNvPicPr/>
          <p:nvPr/>
        </p:nvPicPr>
        <p:blipFill>
          <a:blip r:embed="rId1"/>
          <a:stretch/>
        </p:blipFill>
        <p:spPr>
          <a:xfrm>
            <a:off x="8001000" y="6172200"/>
            <a:ext cx="11430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1042920" y="4724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66"/>
                </a:solidFill>
                <a:uFillTx/>
                <a:latin typeface="Arial"/>
                <a:ea typeface="宋体"/>
              </a:rPr>
              <a:t>因弦月如弓，故称玉弓、弓月。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826920" y="1989000"/>
            <a:ext cx="7490160" cy="12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  <a:ea typeface="华文中宋"/>
              </a:rPr>
              <a:t>      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本文通过一件小事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---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中秋节孩子们寻找月亮的情景，告诉人们一个道理 ， 一个简单平凡却又重要的道理： 生活中美好的东西是属于每个人的 ，只要我们努力去寻找，就能找到我们所需要的美好事物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7" name="WordArt 3"/>
          <p:cNvSpPr txBox="1"/>
          <p:nvPr/>
        </p:nvSpPr>
        <p:spPr>
          <a:xfrm>
            <a:off x="755640" y="620640"/>
            <a:ext cx="32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 u="sng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方正舒体"/>
              </a:rPr>
              <a:t>小结 </a:t>
            </a:r>
            <a:endParaRPr b="1" i="1" lang="en-US" sz="4400" spc="1" strike="noStrike" u="sng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方正舒体"/>
              <a:ea typeface="方正舒体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0" y="328464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ccccff"/>
                </a:solidFill>
                <a:uFillTx/>
                <a:latin typeface="Arial"/>
                <a:ea typeface="宋体"/>
              </a:rPr>
              <a:t>因满月如轮如盘如镜，故称金轮、玉轮、银盘、玉盘、金镜、玉镜。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159984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因传说月中有兔和蟾蜍，故称银兔、玉兔、金蟾、银蟾、蟾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因传说月中有桂树，故称桂月、桂轮、桂宫、桂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月夜"/>
          <p:cNvPicPr/>
          <p:nvPr/>
        </p:nvPicPr>
        <p:blipFill>
          <a:blip r:embed="rId1"/>
          <a:srcRect l="0" t="0" r="0" b="-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WordArt 3"/>
          <p:cNvSpPr txBox="1"/>
          <p:nvPr/>
        </p:nvSpPr>
        <p:spPr>
          <a:xfrm>
            <a:off x="3708360" y="1844640"/>
            <a:ext cx="4824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uFillTx/>
                <a:latin typeface="宋体"/>
              </a:rPr>
              <a:t>月迹</a:t>
            </a:r>
            <a:endParaRPr b="1" i="1" lang="en-US" sz="2400" spc="1" strike="noStrike" u="sng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5076720" y="4508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贾平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599840"/>
            <a:ext cx="815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作者、掌握字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文中所表现的童真童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味文中生动形象的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贾平凹"/>
          <p:cNvPicPr/>
          <p:nvPr/>
        </p:nvPicPr>
        <p:blipFill>
          <a:blip r:embed="rId1"/>
          <a:srcRect l="0" t="0" r="105" b="142"/>
          <a:stretch/>
        </p:blipFill>
        <p:spPr>
          <a:xfrm>
            <a:off x="608472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e54323"/>
                </a:solidFill>
                <a:latin typeface="黑体"/>
                <a:ea typeface="黑体"/>
              </a:rPr>
              <a:t>贾平凹</a:t>
            </a:r>
            <a:r>
              <a:rPr b="0" lang="zh-CN" sz="2500" spc="-1" strike="noStrike">
                <a:solidFill>
                  <a:srgbClr val="e54323"/>
                </a:solidFill>
                <a:latin typeface="黑体"/>
                <a:ea typeface="黑体"/>
              </a:rPr>
              <a:t> （</a:t>
            </a:r>
            <a:r>
              <a:rPr b="0" lang="en-US" sz="2500" spc="-1" strike="noStrike">
                <a:solidFill>
                  <a:srgbClr val="e54323"/>
                </a:solidFill>
                <a:latin typeface="黑体"/>
                <a:ea typeface="黑体"/>
              </a:rPr>
              <a:t>1952----</a:t>
            </a:r>
            <a:r>
              <a:rPr b="0" lang="zh-CN" sz="2500" spc="-1" strike="noStrike">
                <a:solidFill>
                  <a:srgbClr val="e54323"/>
                </a:solidFill>
                <a:latin typeface="黑体"/>
                <a:ea typeface="黑体"/>
              </a:rPr>
              <a:t>）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当代作家，原名贾平娃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3000" spc="-1" strike="noStrike">
                <a:solidFill>
                  <a:srgbClr val="e54323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04920" y="3048120"/>
            <a:ext cx="86756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长篇小说</a:t>
            </a:r>
            <a:r>
              <a:rPr b="0" i="1" lang="en-US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浮躁</a:t>
            </a:r>
            <a:r>
              <a:rPr b="0" i="1" lang="en-US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白夜</a:t>
            </a:r>
            <a:r>
              <a:rPr b="0" i="1" lang="en-US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废都</a:t>
            </a:r>
            <a:r>
              <a:rPr b="0" i="1" lang="en-US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；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散文集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月迹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心迹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爱的踪迹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；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小说集</a:t>
            </a:r>
            <a:r>
              <a:rPr b="0" i="1" lang="en-US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商州散记</a:t>
            </a:r>
            <a:r>
              <a:rPr b="0" i="1" lang="en-US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天狗</a:t>
            </a:r>
            <a:r>
              <a:rPr b="0" i="1" lang="en-US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》 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；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传体长篇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是农民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等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762120" y="3808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走近作者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62120" y="10666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66cc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茅盾文学奖授奖词这样评价贾平凹的写作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66cc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3600" spc="-1" strike="noStrike" u="sng">
                <a:solidFill>
                  <a:srgbClr val="0066cc"/>
                </a:solidFill>
                <a:uFillTx/>
                <a:latin typeface="Arial"/>
                <a:ea typeface="黑体"/>
              </a:rPr>
              <a:t>他的语言极具个性化色彩，淡化抒情，朴拙空灵，内心却波澜万丈。他以精微的叙事，绵密的细节，成功地仿写了一种日常生活的本真状态，并作了充满赤子情怀的记述和解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6:37:01Z</dcterms:created>
  <dc:creator/>
  <dc:description/>
  <dc:language>en-US</dc:language>
  <cp:lastModifiedBy>万润仪器贸易公司</cp:lastModifiedBy>
  <dcterms:modified xsi:type="dcterms:W3CDTF">2020-08-24T06:37:05Z</dcterms:modified>
  <cp:revision>23</cp:revision>
  <dc:subject/>
  <dc:title>赏月话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